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wmf" ContentType="image/x-wmf"/>
  <Override PartName="/ppt/media/image17.png" ContentType="image/png"/>
  <Override PartName="/ppt/media/image8.png" ContentType="image/png"/>
  <Override PartName="/ppt/media/image16.wmf" ContentType="image/x-wmf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15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AF066-9379-4E0D-9641-1A86E93AD1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CABC7-2C24-4C2E-A50F-061F4B80EF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49BAB-8A4C-4673-ADF7-9B95F6E738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3423A-CF87-4E34-A500-F220C65B56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98C9F8-031F-44D6-99A3-B4892DBC1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28ED22-2293-4992-A1D8-C3453354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69B1FD-F4B5-44E5-A352-4F9FB4F90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E628D9-A8A9-4A08-B24C-F52DCCDE3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5205F4-7643-4D90-AA12-A4B76E063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F350F9-53D7-4672-A68F-40CF72052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055EC6-0F7C-4F03-8B9A-6770DA24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BDE4A-FBA9-4AE9-AF87-8134313C75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5A3C77-D2F9-4D34-909D-73B35C8D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1F983F-5107-4CEE-911B-F853400C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556FBB-9DF6-4FDE-99C2-96A1B0272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BF7207-3CE0-4AF2-B789-F28AB00C0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C64D6F-3E13-4AEF-AC5B-53E520A1C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60EB3-D17E-4AFD-86B1-7B235BB44C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541FD-A24F-4F91-B9FA-7AF1467451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A27B1-DE9F-4F5B-B7F8-F0FC6A6B61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E3AEB-B1AD-43B9-B3BF-FE948EB003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77784-C4EE-4FC3-A131-6CA8702D10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C469A-D8E7-47E0-BDE1-D2774B7638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7F1B7-C6D3-481E-91EE-5E53C7D125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C27AC-F13F-42F3-BE52-7F0DF572DE2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022C8-5656-4CDD-9902-5A7BD1FBDCB2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B8831-85D5-40B2-B1C2-31663949F3E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2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hacton School District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cceptable Use Polic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ou Have to Sign i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 you might as well know what it i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8351" t="0" r="0" b="0"/>
          <a:stretch/>
        </p:blipFill>
        <p:spPr>
          <a:xfrm>
            <a:off x="0" y="0"/>
            <a:ext cx="1981080" cy="17128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7086600" y="0"/>
            <a:ext cx="2057400" cy="181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Mrs. Conger, Arrowhead Libr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27865A-63E9-4196-A30F-852F4F3C714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6D46681-54DB-4D2F-A39B-494F0EA49A8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re Examples of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nacceptable U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abusive or otherwise objectionable language in either public or private mess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atening, harassing, insulting or attacking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ting anonymous mess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ing undue congestion of the network through lengthy downloads of files, or by engaging in idle activities i.e. wasting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sting resources- remember our Metaphor lesson… time is money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7391520" y="0"/>
            <a:ext cx="1500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s. Conger, Arrowhead Libr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1A5A7-96B2-4CCA-B2B8-44EBC512B3B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re Examples of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nacceptable U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ndalizing the data of another 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ving to someone else’s folder is not allowed but there are other ways to corrupt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ing one’s self with another person’s nam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not attempt to take an Accelerated Reader test for another stud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an account or password of another user without author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ncludes any attempt to log onto another person’s Accelerated Reader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ft of data, equipment, or intellectual proper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llectual property includes information you gather on the Internet- you must cite everything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7923240" y="0"/>
            <a:ext cx="1220760" cy="15238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523880" cy="121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s. Conger, Arrowhead Libr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F6F9B-5298-4F6D-A3F3-B80F1B8FC1A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b Pag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140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ll web pages and information residing on the Methacton Website shall be in support of the District’s miss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“…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to prepare students for meaningful participation in an increasingly diverse world.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140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echnology will be integrated into the teaching and learning process to prepare students to adapt to a changing environ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tudents will learn to use web pages that are educationally appropriate and will learn to choose the best resources for the subjects they are study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random image"/>
          <p:cNvPicPr/>
          <p:nvPr/>
        </p:nvPicPr>
        <p:blipFill>
          <a:blip r:embed="rId3"/>
          <a:stretch/>
        </p:blipFill>
        <p:spPr>
          <a:xfrm>
            <a:off x="7086600" y="5638680"/>
            <a:ext cx="1857240" cy="8794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s. Conger, Arrowhead Libr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0A347-1167-4340-8298-B28D5B22347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igning the AU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th you and your parents must now sign the Acceptable Use Police that is being sent home tod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turn it to Mrs. Conger as soon as possible.  It will be kept on file in the libra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s. Conger, Arrowhead Libr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D25D9-C0D5-460F-A762-F8ED08C2470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users of the District’s equi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ropriate use of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rict Library Standards indicate that students must know how to properly use district equipment and network resources and must use them appropriate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random image"/>
          <p:cNvPicPr/>
          <p:nvPr/>
        </p:nvPicPr>
        <p:blipFill>
          <a:blip r:embed="rId2"/>
          <a:stretch/>
        </p:blipFill>
        <p:spPr>
          <a:xfrm>
            <a:off x="7086600" y="5638680"/>
            <a:ext cx="1704960" cy="8064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s. Conger, Arrowhead Libr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6C558-A96C-40E9-8D07-624E40C9F6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uthorized Users- who has to sign the Acceptable Use Policy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ruct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ac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ud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ministra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ncip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reta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fice work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yone who works for Methacton School Distri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random image"/>
          <p:cNvPicPr/>
          <p:nvPr/>
        </p:nvPicPr>
        <p:blipFill>
          <a:blip r:embed="rId3"/>
          <a:stretch/>
        </p:blipFill>
        <p:spPr>
          <a:xfrm>
            <a:off x="7210440" y="5715000"/>
            <a:ext cx="1933560" cy="9144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feteria Work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ool Board Me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yone using Methacton School District’s Internet and e-m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s. Conger, Arrowhead Library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524E7-3C4B-43D4-83F5-7EBF31358BE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rovis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ptable uses of the network are activities which support learning and teach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of the Methacton School District network services is a privilege, not a right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ilure to adhere to the Acceptable Use Policy and administrative procedures may result in suspension or revocation of network access. Disciplinary action or criminal penalties may also resul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6858000" y="0"/>
            <a:ext cx="2286000" cy="108108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s. Conger, Arrowhead Libr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0E821-6451-4355-B939-0D4E6C560C7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Unauthorized Use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153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llegal or Non-authorized Activ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ames and sites not approved by the district, your teacher, or Mrs. Con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pyright Infrin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may not use pictures or information from the Internet without proper ci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scene Materi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rst turn off the monitor then you must call Mrs. Conger or another adult if anything unusual pops up on your computer while you are doing searc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2351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ing the proper search engines and techniques will help alleviate this potential probl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random image"/>
          <p:cNvPicPr/>
          <p:nvPr/>
        </p:nvPicPr>
        <p:blipFill>
          <a:blip r:embed="rId5"/>
          <a:stretch/>
        </p:blipFill>
        <p:spPr>
          <a:xfrm>
            <a:off x="6934320" y="5791320"/>
            <a:ext cx="1957320" cy="9270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s. Conger, Arrowhead Libr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42171-926E-4B6C-B53B-EDC16C6BADF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nauthorized Us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3059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Activ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may not buy or sell on the Internet while at sch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ruses and Sabot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scellaneous Acts that Waste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must ask permission to pr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 is a valuable resource- use it wisely while you are using the Internet to do resear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gives Mrs. Conger permission to send you back to your class if you are not on appropriate research websi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7315200" y="5154480"/>
            <a:ext cx="1828800" cy="170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s. Conger, Arrowhead Libr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A38D9-3E70-45A9-9DE3-6C2B5AEC44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cceptable U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140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ect private information such as addresses, phone numbers, or passwor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e Mrs. Conger to change your Accelerated Reader Passwo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140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 appropriate language. This applies to public messages,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rivate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messages, and material posted on Web pages as well as any word you use in a searc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140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spect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copyright law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140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 the computers for their intended educational purposes onl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140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nderstand that use of the computer or the network for non-educational purposes is strictly prohibit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random image"/>
          <p:cNvPicPr/>
          <p:nvPr/>
        </p:nvPicPr>
        <p:blipFill>
          <a:blip r:embed="rId6"/>
          <a:stretch/>
        </p:blipFill>
        <p:spPr>
          <a:xfrm>
            <a:off x="7210440" y="5943600"/>
            <a:ext cx="1933560" cy="9144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s. Conger, Arrowhead Libr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6F039-A08C-4D24-ABCB-5BD142E4FB3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amples of Unacceptable U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maging computers, peripherals, computer systems, or computer netwo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f you break it, you will have to pay for it and may be prohibited from using school compu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ining access to or trespassing in unauthorized files, folders, or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ave things in your own folder, do not go into another student’s folder or any other area of the netwo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the network for commercial purpo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ssing inappropriate Internet web sites or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You will be asked to leave the library if you are on a site that is not approved for educational us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s. Conger, Arrowhead Libr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3A06A-0B10-44B1-B23E-0328784C0C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amples of Unacceptable U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noyance or harassment of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s includes audio, you may not turn on the library computer’s sound unless you ask Mrs. Cong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yber-bullying will not be tolerat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the network for any illegal activity, including violation of copyright or other licenses or con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es, copyright is a big deal, if you use pictures or sounds from the Internet, be ready to cite the source just like you do when you get information from a book or websit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ssing chat rooms, instant messaging or blogging which are not a part of a class activity directly under the supervision of a teacher or is educationally inappropri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omputers are for educational purposes only!!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s. Conger, Arrowhead Libr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33A47-88BD-43B2-BF55-6D03BC70A74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20:30:38Z</dcterms:created>
  <dc:creator>bschlegel</dc:creator>
  <dc:description/>
  <dc:language>en-US</dc:language>
  <cp:lastModifiedBy>default</cp:lastModifiedBy>
  <dcterms:modified xsi:type="dcterms:W3CDTF">2010-02-18T21:43:00Z</dcterms:modified>
  <cp:revision>32</cp:revision>
  <dc:subject/>
  <dc:title>Webster Central School District Acceptable Use Regulation</dc:title>
</cp:coreProperties>
</file>